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4C76-2AED-4B8B-9EFE-F4C91D942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5CEC-8BCA-40F6-A81A-1B7B76EDA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C742-0BE8-47F0-8F9F-9B0884BC3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10C6-5FEA-4CFD-ABEB-DFC661161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9175-BF12-447F-A13D-869645630A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CA9E-9BC7-44D0-99D4-054B02285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19A2-C6AB-457B-A562-E11EACC64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AEB3-D245-40AD-BD02-99795A134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51B5-9E1C-4298-B058-CC654AAA1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A2A2-58A3-4035-8FF6-BDD12480E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47F10-E0EF-42C6-9D62-25A8DA6CD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0ADD-C2E1-47C7-8167-164EAE160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8AF2-62C5-44ED-ACFC-2C44691D21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959C-5BAE-4FFA-916C-C93761978D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C611-D193-4F5A-B68F-03A3CD2CBF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933C-8EF2-43A9-A9D0-0477B412B5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9234-59D1-4BC6-A48E-242A2E9670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46F4-05AA-48AA-A9C6-25355E374A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6099120" y="28843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754344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823A-65C6-4EB5-B1B7-E3A95D81A0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55BD-071C-4179-8A42-07A8B58633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edback and Observa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1BC2-B706-4525-AD9A-D2434D730D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4C46-5F0B-4CED-A776-BFCCE300DF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A5D7-0793-49C8-A98B-72D4657AD7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CE05-3992-4345-9EA5-4332DF2FFF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EE19-BE27-4C00-A237-141291E0C2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D4A-48E5-4D96-A757-8CF9B72DDA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 of any fun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underlying pattern ev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model facilitate general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y and St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other groups’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guess the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your group or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common questions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3F0-8FA2-408C-A655-9D60090FD4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6563-23D2-4A71-B5F0-EF3F2110E5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4B0F-0568-4B2E-BA67-BE893B9AE1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FA50-7F7E-4D0E-BEF7-9FA245F9D1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53C5-F766-4469-B8D2-3FF1467202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53B0-11DD-41A5-90E1-A331426455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1209-3BF8-4EF7-A6D4-5CEA7D6B92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ADAD-5D18-494E-A706-54789D7BF7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95F3-329F-4CD6-9397-3F7027A8CB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2A94-5034-4463-B9F1-7758F46A7B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05:57Z</dcterms:modified>
  <cp:revision>29</cp:revision>
  <dc:subject/>
  <dc:title>&lt;Title&gt;</dc:title>
</cp:coreProperties>
</file>